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D40D-9580-4DFA-8D69-F00230EF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AF42-3DE8-400C-A118-A8AD9081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0E3-1DAB-4146-8EFD-5D6F2FB8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61B-0C18-4D75-8EB6-CB55D638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975A-2EC4-4A6E-A226-CAAA1D3C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3098-3588-4280-BD21-DABBD4B8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9BFE-ECBB-457B-BAB9-EA54CA25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1C99-74B7-4176-A81C-0230ED2B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7F37-EAAF-4A37-A097-B31D7B7B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7F54-94D3-4F29-A16A-D22F3C84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0D1E-4EEA-49EB-81E8-CA210625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DF2-2DAE-4B24-9E80-24DCFA6F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952B-03E6-4B59-B952-C30A7EE0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2391-888D-49A9-8903-E4251346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93BA-6BEB-4B93-AF39-4BA2A087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E560-FB52-4CFC-A57B-99A2829C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87AC-954F-4202-BF10-E62BE62E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896C3-EF41-4691-ACE3-DB48B660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87289-CD91-450A-BC0F-52FAA832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47CFD-54F8-4399-9CBD-5495C13A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5E8FA-BDA6-4DCE-BA16-019A9D05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7A8F1-BEAB-4594-A4E5-85C2AA15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623-DBB9-43D0-8D8A-8631800D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05A8C-31B0-4150-8CE4-AFB9ED38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BFEC1-28C9-48FE-842A-AF0B0730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50CCA-7D3D-4E91-B364-92C0DF1C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073FC-FD46-46D3-9344-0ED32390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99D08-6B63-4E81-B2E6-E4F38E4D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F9618-EE91-47C0-AFCB-6C0C76B0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9CF18-E06C-46CE-BB23-2F8B24BF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DBE5A-E5EC-46D0-96E2-C4D1F7F9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32F97-93C2-4A1F-B151-DE83C714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54D3A-95B6-4A3F-B969-0ED04A14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19A-B43D-4329-A7BA-38F4B9E8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3E6A7-AB7E-4D6F-BF6A-F0162573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9EC08-DD6B-43F1-869E-22B6E6C9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7B70F-288F-469C-AC38-5F177038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0AE5E-F6E3-4846-9E8F-73DC19A1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454AE-B387-4095-9326-17F5F6C3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E51BA-E989-45A0-8EFD-9F2A4EA9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18FF3-9071-4F38-A271-185110CE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38F9B-70DB-4858-9227-245AE927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B6845-5FCB-48C8-ACE8-046C92C8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127-9E3C-472C-8DFD-3DB0E478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5DA-573A-4BCD-9DFE-1B7CFACC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79C-D4CC-48EC-B439-7296210C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B96-8504-465B-9546-AC50F96D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931-EAB8-4950-A1A0-2CF98267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B415-F839-413F-931E-2CB4EF09D306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FDEF-8AD6-41E8-89A3-EFD094F6991E}" type="slidenum">
              <a:rPr b="0" lang="en-C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4167-6BF6-4E2D-8A25-1499FD4ED9D9}" type="slidenum">
              <a:rPr b="0" lang="en-C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8AD9-C511-40E8-AE44-5016DB584D84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042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10" descr="http://t3.gstatic.com/images?q=tbn:ANd9GcQnhbGG7XQJXicQGvJ1kQXMPnF_Pz7tjS4qemDKzmd2mHBhWgFp"/>
          <p:cNvPicPr/>
          <p:nvPr/>
        </p:nvPicPr>
        <p:blipFill>
          <a:blip r:embed="rId2"/>
          <a:stretch/>
        </p:blipFill>
        <p:spPr>
          <a:xfrm>
            <a:off x="6019920" y="21337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AutoShape 1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AutoShape 1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AutoShape 2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AutoShape 2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AutoShape 2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AutoShape 3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TextBox 18"/>
          <p:cNvSpPr/>
          <p:nvPr/>
        </p:nvSpPr>
        <p:spPr>
          <a:xfrm>
            <a:off x="2438280" y="228600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tea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AutoShape 1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14" descr="http://t2.gstatic.com/images?q=tbn:ANd9GcT6Lk268_GD83WOd56SB8101BhJ0wXhevpk4eXwWFmPVgA0gzm80g"/>
          <p:cNvPicPr/>
          <p:nvPr/>
        </p:nvPicPr>
        <p:blipFill>
          <a:blip r:embed="rId2"/>
          <a:stretch/>
        </p:blipFill>
        <p:spPr>
          <a:xfrm>
            <a:off x="304920" y="44956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AutoShape 1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AutoShape 2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AutoShape 2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AutoShape 2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AutoShape 3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18"/>
          <p:cNvSpPr/>
          <p:nvPr/>
        </p:nvSpPr>
        <p:spPr>
          <a:xfrm>
            <a:off x="4267080" y="4343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cocoa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AutoShape 1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AutoShape 1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AutoShape 1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AutoShape 2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AutoShape 2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AutoShape 2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AutoShape 3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32" descr="http://t2.gstatic.com/images?q=tbn:ANd9GcQcl3JATG3rXMp_1dsibe6P32vL0tQC8dBcs7iB_3wXXrrAuTRRrQ"/>
          <p:cNvPicPr/>
          <p:nvPr/>
        </p:nvPicPr>
        <p:blipFill>
          <a:blip r:embed="rId2"/>
          <a:stretch/>
        </p:blipFill>
        <p:spPr>
          <a:xfrm>
            <a:off x="3200400" y="4419720"/>
            <a:ext cx="2467080" cy="18572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18"/>
          <p:cNvSpPr/>
          <p:nvPr/>
        </p:nvSpPr>
        <p:spPr>
          <a:xfrm>
            <a:off x="2514600" y="28954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Yerba mate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AutoShape 1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AutoShape 1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AutoShape 2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AutoShape 2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24" descr="http://t3.gstatic.com/images?q=tbn:ANd9GcRePB6R0ON1KBY7irR_pOAleBTy6EkauaDZr1QsxpE8lwt-zVgiWw"/>
          <p:cNvPicPr/>
          <p:nvPr/>
        </p:nvPicPr>
        <p:blipFill>
          <a:blip r:embed="rId2"/>
          <a:stretch/>
        </p:blipFill>
        <p:spPr>
          <a:xfrm>
            <a:off x="6095880" y="45720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2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AutoShape 3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Box 18"/>
          <p:cNvSpPr/>
          <p:nvPr/>
        </p:nvSpPr>
        <p:spPr>
          <a:xfrm>
            <a:off x="1752480" y="46483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kola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-79200" y="29844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302" name="TextBox 2"/>
          <p:cNvSpPr/>
          <p:nvPr/>
        </p:nvSpPr>
        <p:spPr>
          <a:xfrm>
            <a:off x="914400" y="1779480"/>
            <a:ext cx="6781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lertnes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ncentr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nsomni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adach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rritabilit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ervousnes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Dehydr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Urin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0" y="378000"/>
            <a:ext cx="8693280" cy="11523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2"/>
          <p:cNvSpPr/>
          <p:nvPr/>
        </p:nvSpPr>
        <p:spPr>
          <a:xfrm>
            <a:off x="762120" y="1600200"/>
            <a:ext cx="7238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.5 mg / kg of body weigh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-6 yrs. = 45 m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7-9 yrs. = 62.5 m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0-12 yrs. = 85 m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dult = 400 mg (women 300 mg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838080" y="2286000"/>
            <a:ext cx="7010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Guidelin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Natural vs, additiv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Energy drink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affeine pill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lcohol and caffein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ocabula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4264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 oz = 237 ml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stimulan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diuretic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dditiv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natural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Food &amp; Drug Regulatio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timula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agent, especially a drug, that causes increased activity, especially of the nervous or cardiovascular systems. Caffeine is a commonly used stimula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stimulant. (n.d.). The American Heritage® Science Dictionary. Retrieved February 03, 2013, from Dictionary.com website: http://dictionary.reference.com/browse/stimulant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uretic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substance or drug that tends to increase the discharge of urine. Diuretics are used in the treatment of high blood pressure, edema, and other medical condition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diuretic. (n.d.). The American Heritage® Science Dictionary. Retrieved February 03, 2013, from Dictionary.com website: http://dictionary.reference.com/browse/diuretic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di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thing that is added, as one substance to another, to alter or improve the general quality or to counteract undesirable properties: an additive that thins pai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dditive. (n.d.). Dictionary.com Unabridged. Retrieved February 03, 2013, from Dictionary.com website: http://dictionary.reference.com/browse/additiv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tur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, existing in, or produced by na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natural. (n.d.). Collins English Dictionary - Complete &amp; Unabridged 10th Edition. Retrieved February 03, 2013, from Dictionary.com website: http://dictionary.reference.com/browse/natur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8" descr="http://t1.gstatic.com/images?q=tbn:ANd9GcSiK5RMT_8Petg26Dzz4P791iFTeIkaYnD0Av8TFe4OcVQoh3U2"/>
          <p:cNvPicPr/>
          <p:nvPr/>
        </p:nvPicPr>
        <p:blipFill>
          <a:blip r:embed="rId2"/>
          <a:stretch/>
        </p:blipFill>
        <p:spPr>
          <a:xfrm>
            <a:off x="380880" y="2209680"/>
            <a:ext cx="2562480" cy="1791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http://t3.gstatic.com/images?q=tbn:ANd9GcQnhbGG7XQJXicQGvJ1kQXMPnF_Pz7tjS4qemDKzmd2mHBhWgFp"/>
          <p:cNvPicPr/>
          <p:nvPr/>
        </p:nvPicPr>
        <p:blipFill>
          <a:blip r:embed="rId3"/>
          <a:stretch/>
        </p:blipFill>
        <p:spPr>
          <a:xfrm>
            <a:off x="6019920" y="21337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1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14" descr="http://t2.gstatic.com/images?q=tbn:ANd9GcT6Lk268_GD83WOd56SB8101BhJ0wXhevpk4eXwWFmPVgA0gzm80g"/>
          <p:cNvPicPr/>
          <p:nvPr/>
        </p:nvPicPr>
        <p:blipFill>
          <a:blip r:embed="rId4"/>
          <a:stretch/>
        </p:blipFill>
        <p:spPr>
          <a:xfrm>
            <a:off x="304920" y="44956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1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AutoShape 1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AutoShape 2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4" descr="http://t3.gstatic.com/images?q=tbn:ANd9GcRePB6R0ON1KBY7irR_pOAleBTy6EkauaDZr1QsxpE8lwt-zVgiWw"/>
          <p:cNvPicPr/>
          <p:nvPr/>
        </p:nvPicPr>
        <p:blipFill>
          <a:blip r:embed="rId5"/>
          <a:stretch/>
        </p:blipFill>
        <p:spPr>
          <a:xfrm>
            <a:off x="6095880" y="4572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6" descr="http://t0.gstatic.com/images?q=tbn:ANd9GcRGMf36gLcMkMQe-TiiCXyYVvBoES37Evv8x_YdWLNz9EQ3BpzW"/>
          <p:cNvPicPr/>
          <p:nvPr/>
        </p:nvPicPr>
        <p:blipFill>
          <a:blip r:embed="rId6"/>
          <a:stretch/>
        </p:blipFill>
        <p:spPr>
          <a:xfrm>
            <a:off x="3124080" y="2209680"/>
            <a:ext cx="2600280" cy="17528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AutoShape 3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32" descr="http://t2.gstatic.com/images?q=tbn:ANd9GcQcl3JATG3rXMp_1dsibe6P32vL0tQC8dBcs7iB_3wXXrrAuTRRrQ"/>
          <p:cNvPicPr/>
          <p:nvPr/>
        </p:nvPicPr>
        <p:blipFill>
          <a:blip r:embed="rId7"/>
          <a:stretch/>
        </p:blipFill>
        <p:spPr>
          <a:xfrm>
            <a:off x="3200400" y="4419720"/>
            <a:ext cx="2467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8" descr="http://t1.gstatic.com/images?q=tbn:ANd9GcSiK5RMT_8Petg26Dzz4P791iFTeIkaYnD0Av8TFe4OcVQoh3U2"/>
          <p:cNvPicPr/>
          <p:nvPr/>
        </p:nvPicPr>
        <p:blipFill>
          <a:blip r:embed="rId2"/>
          <a:stretch/>
        </p:blipFill>
        <p:spPr>
          <a:xfrm>
            <a:off x="380880" y="2209680"/>
            <a:ext cx="2562480" cy="179100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AutoShape 2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AutoShape 2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AutoShape 2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AutoShape 3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Box 18"/>
          <p:cNvSpPr/>
          <p:nvPr/>
        </p:nvSpPr>
        <p:spPr>
          <a:xfrm>
            <a:off x="4114800" y="22860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coffee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AutoShape 1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1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1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AutoShape 2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AutoShape 2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26" descr="http://t0.gstatic.com/images?q=tbn:ANd9GcRGMf36gLcMkMQe-TiiCXyYVvBoES37Evv8x_YdWLNz9EQ3BpzW"/>
          <p:cNvPicPr/>
          <p:nvPr/>
        </p:nvPicPr>
        <p:blipFill>
          <a:blip r:embed="rId2"/>
          <a:stretch/>
        </p:blipFill>
        <p:spPr>
          <a:xfrm>
            <a:off x="3124080" y="2209680"/>
            <a:ext cx="2600280" cy="17528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2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AutoShape 3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18"/>
          <p:cNvSpPr/>
          <p:nvPr/>
        </p:nvSpPr>
        <p:spPr>
          <a:xfrm>
            <a:off x="3048120" y="4572000"/>
            <a:ext cx="44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guarana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00:29:19Z</dcterms:created>
  <dc:creator>ladmin</dc:creator>
  <dc:description/>
  <dc:language>en-US</dc:language>
  <cp:lastModifiedBy>ladmin</cp:lastModifiedBy>
  <dcterms:modified xsi:type="dcterms:W3CDTF">2013-02-04T01:14:05Z</dcterms:modified>
  <cp:revision>25</cp:revision>
  <dc:subject/>
  <dc:title>Slide 1</dc:title>
</cp:coreProperties>
</file>